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4E8-932A-425D-AE77-ED58FD9F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A04-2A21-4FC7-B785-8516F20B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8A1-4112-4767-BE62-300ACEEB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1B9-A998-4ABC-BDA6-ED562BD5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AB5-7B55-4167-85F2-D9A6AF5D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ED2-939C-499F-80CB-9001A5B2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70B-306C-4F12-A101-DCACA139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99F-714D-4840-B856-075D889E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A5F-7052-4955-AF42-D6DFD14A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337-1952-43F5-BE3C-05F263C3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5A7-422C-4ABE-ACCD-DD125C0E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7EA-F102-4ED4-B073-C19901C1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DD52-A6FB-4AA6-BE30-1F48F7204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1219320" y="2438280"/>
            <a:ext cx="1981080" cy="160020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Virtu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publ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 rot="20176200">
            <a:off x="228240" y="1523520"/>
            <a:ext cx="2057400" cy="914400"/>
          </a:xfrm>
          <a:prstGeom prst="downArrowCallout">
            <a:avLst>
              <a:gd name="adj1" fmla="val 56255"/>
              <a:gd name="adj2" fmla="val 56250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ical view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l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 flipV="1" rot="19946400">
            <a:off x="2152440" y="4038480"/>
            <a:ext cx="1973160" cy="947880"/>
          </a:xfrm>
          <a:prstGeom prst="downArrowCallout">
            <a:avLst>
              <a:gd name="adj1" fmla="val 52046"/>
              <a:gd name="adj2" fmla="val 52041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ty on a hill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John Winthro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 flipV="1" rot="1698600">
            <a:off x="380880" y="4070880"/>
            <a:ext cx="1752840" cy="914400"/>
          </a:xfrm>
          <a:prstGeom prst="downArrowCallout">
            <a:avLst>
              <a:gd name="adj1" fmla="val 47927"/>
              <a:gd name="adj2" fmla="val 47923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deal citiz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Cincinnatu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124080" y="1980720"/>
            <a:ext cx="2286000" cy="121932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24080" y="3200400"/>
            <a:ext cx="2210040" cy="1143000"/>
          </a:xfrm>
          <a:prstGeom prst="line">
            <a:avLst/>
          </a:prstGeom>
          <a:ln w="284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5486400" y="685800"/>
            <a:ext cx="3352680" cy="585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ovt. gets its authority from the citiz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 selfless, educated citizen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Elections should be frequ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ovt. should guarantee individual rights &amp; freed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ovt.’s power should be limited [checks &amp; balance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The need for a written Constit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E Pluribus Unum.” [“Out of many, one”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n important role for women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raise good, virtuous citizens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[“Republican Womanhood”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/>
          <p:cNvSpPr/>
          <p:nvPr/>
        </p:nvSpPr>
        <p:spPr>
          <a:xfrm rot="1520400">
            <a:off x="2361960" y="1523880"/>
            <a:ext cx="1904760" cy="914400"/>
          </a:xfrm>
          <a:prstGeom prst="downArrowCallout">
            <a:avLst>
              <a:gd name="adj1" fmla="val 52082"/>
              <a:gd name="adj2" fmla="val 52077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lighten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4:28:23Z</dcterms:created>
  <dc:creator>CCSD</dc:creator>
  <dc:description/>
  <dc:language>en-US</dc:language>
  <cp:lastModifiedBy>Jenkins, Mark</cp:lastModifiedBy>
  <dcterms:modified xsi:type="dcterms:W3CDTF">2012-03-22T12:48:10Z</dcterms:modified>
  <cp:revision>5</cp:revision>
  <dc:subject/>
  <dc:title>Slide 1</dc:title>
</cp:coreProperties>
</file>